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EE3-3EB9-480C-897F-A1FE6210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D3AF-E43C-4BF7-9823-7B845138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3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6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pSp>
        <p:nvGrpSpPr>
          <p:cNvPr id="14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5" name="Rectangle 20" hidden="1"/>
            <p:cNvSpPr/>
            <p:nvPr/>
          </p:nvSpPr>
          <p:spPr>
            <a:xfrm rot="21540000">
              <a:off x="379800" y="6098400"/>
              <a:ext cx="8305560" cy="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21"/>
            <p:cNvSpPr/>
            <p:nvPr/>
          </p:nvSpPr>
          <p:spPr>
            <a:xfrm rot="21540000">
              <a:off x="379800" y="61696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2"/>
            <p:cNvSpPr/>
            <p:nvPr/>
          </p:nvSpPr>
          <p:spPr>
            <a:xfrm rot="21540000">
              <a:off x="584640" y="61635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3"/>
            <p:cNvSpPr/>
            <p:nvPr/>
          </p:nvSpPr>
          <p:spPr>
            <a:xfrm rot="21540000">
              <a:off x="790920" y="6160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4"/>
            <p:cNvSpPr/>
            <p:nvPr/>
          </p:nvSpPr>
          <p:spPr>
            <a:xfrm rot="21540000">
              <a:off x="995760" y="61585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5"/>
            <p:cNvSpPr/>
            <p:nvPr/>
          </p:nvSpPr>
          <p:spPr>
            <a:xfrm rot="21540000">
              <a:off x="1202040" y="6155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6"/>
            <p:cNvSpPr/>
            <p:nvPr/>
          </p:nvSpPr>
          <p:spPr>
            <a:xfrm rot="21540000">
              <a:off x="1406520" y="61495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7"/>
            <p:cNvSpPr/>
            <p:nvPr/>
          </p:nvSpPr>
          <p:spPr>
            <a:xfrm rot="21540000">
              <a:off x="1611360" y="61462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8"/>
            <p:cNvSpPr/>
            <p:nvPr/>
          </p:nvSpPr>
          <p:spPr>
            <a:xfrm rot="21540000">
              <a:off x="1817640" y="6144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9"/>
            <p:cNvSpPr/>
            <p:nvPr/>
          </p:nvSpPr>
          <p:spPr>
            <a:xfrm rot="21540000">
              <a:off x="2022480" y="61416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30"/>
            <p:cNvSpPr/>
            <p:nvPr/>
          </p:nvSpPr>
          <p:spPr>
            <a:xfrm rot="21540000">
              <a:off x="2229120" y="61351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31"/>
            <p:cNvSpPr/>
            <p:nvPr/>
          </p:nvSpPr>
          <p:spPr>
            <a:xfrm rot="21540000">
              <a:off x="2433960" y="6131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2"/>
            <p:cNvSpPr/>
            <p:nvPr/>
          </p:nvSpPr>
          <p:spPr>
            <a:xfrm rot="21540000">
              <a:off x="2638440" y="6130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3"/>
            <p:cNvSpPr/>
            <p:nvPr/>
          </p:nvSpPr>
          <p:spPr>
            <a:xfrm rot="21540000">
              <a:off x="2845080" y="6127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4"/>
            <p:cNvSpPr/>
            <p:nvPr/>
          </p:nvSpPr>
          <p:spPr>
            <a:xfrm rot="21540000">
              <a:off x="3049920" y="61207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5"/>
            <p:cNvSpPr/>
            <p:nvPr/>
          </p:nvSpPr>
          <p:spPr>
            <a:xfrm rot="21540000">
              <a:off x="3254760" y="6117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6"/>
            <p:cNvSpPr/>
            <p:nvPr/>
          </p:nvSpPr>
          <p:spPr>
            <a:xfrm rot="21540000">
              <a:off x="3461040" y="6116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7"/>
            <p:cNvSpPr/>
            <p:nvPr/>
          </p:nvSpPr>
          <p:spPr>
            <a:xfrm rot="21540000">
              <a:off x="3665880" y="611280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8"/>
            <p:cNvSpPr/>
            <p:nvPr/>
          </p:nvSpPr>
          <p:spPr>
            <a:xfrm rot="21540000">
              <a:off x="3871800" y="6106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9"/>
            <p:cNvSpPr/>
            <p:nvPr/>
          </p:nvSpPr>
          <p:spPr>
            <a:xfrm rot="21540000">
              <a:off x="4076640" y="6103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40"/>
            <p:cNvSpPr/>
            <p:nvPr/>
          </p:nvSpPr>
          <p:spPr>
            <a:xfrm rot="21540000">
              <a:off x="4281480" y="6101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41"/>
            <p:cNvSpPr/>
            <p:nvPr/>
          </p:nvSpPr>
          <p:spPr>
            <a:xfrm rot="21540000">
              <a:off x="4487760" y="6098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42"/>
            <p:cNvSpPr/>
            <p:nvPr/>
          </p:nvSpPr>
          <p:spPr>
            <a:xfrm rot="21540000">
              <a:off x="4689720" y="60919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3"/>
            <p:cNvSpPr/>
            <p:nvPr/>
          </p:nvSpPr>
          <p:spPr>
            <a:xfrm rot="21540000">
              <a:off x="4896000" y="6090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4"/>
            <p:cNvSpPr/>
            <p:nvPr/>
          </p:nvSpPr>
          <p:spPr>
            <a:xfrm rot="21540000">
              <a:off x="5100840" y="6087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5"/>
            <p:cNvSpPr/>
            <p:nvPr/>
          </p:nvSpPr>
          <p:spPr>
            <a:xfrm rot="21540000">
              <a:off x="5305680" y="6081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6"/>
            <p:cNvSpPr/>
            <p:nvPr/>
          </p:nvSpPr>
          <p:spPr>
            <a:xfrm rot="21540000">
              <a:off x="5511960" y="6078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7"/>
            <p:cNvSpPr/>
            <p:nvPr/>
          </p:nvSpPr>
          <p:spPr>
            <a:xfrm rot="21540000">
              <a:off x="5716800" y="6076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8"/>
            <p:cNvSpPr/>
            <p:nvPr/>
          </p:nvSpPr>
          <p:spPr>
            <a:xfrm rot="21540000">
              <a:off x="5923080" y="6073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9"/>
            <p:cNvSpPr/>
            <p:nvPr/>
          </p:nvSpPr>
          <p:spPr>
            <a:xfrm rot="21540000">
              <a:off x="6127560" y="60670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50"/>
            <p:cNvSpPr/>
            <p:nvPr/>
          </p:nvSpPr>
          <p:spPr>
            <a:xfrm rot="21540000">
              <a:off x="6332400" y="60638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1"/>
            <p:cNvSpPr/>
            <p:nvPr/>
          </p:nvSpPr>
          <p:spPr>
            <a:xfrm rot="21540000">
              <a:off x="6539040" y="6062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2"/>
            <p:cNvSpPr/>
            <p:nvPr/>
          </p:nvSpPr>
          <p:spPr>
            <a:xfrm rot="21540000">
              <a:off x="6743520" y="60588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3"/>
            <p:cNvSpPr/>
            <p:nvPr/>
          </p:nvSpPr>
          <p:spPr>
            <a:xfrm rot="21540000">
              <a:off x="6948720" y="60526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4"/>
            <p:cNvSpPr/>
            <p:nvPr/>
          </p:nvSpPr>
          <p:spPr>
            <a:xfrm rot="21540000">
              <a:off x="7155000" y="6049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5"/>
            <p:cNvSpPr/>
            <p:nvPr/>
          </p:nvSpPr>
          <p:spPr>
            <a:xfrm rot="21540000">
              <a:off x="7359840" y="6047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6"/>
            <p:cNvSpPr/>
            <p:nvPr/>
          </p:nvSpPr>
          <p:spPr>
            <a:xfrm rot="21540000">
              <a:off x="7566120" y="6044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7"/>
            <p:cNvSpPr/>
            <p:nvPr/>
          </p:nvSpPr>
          <p:spPr>
            <a:xfrm rot="21540000">
              <a:off x="7770960" y="6038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8"/>
            <p:cNvSpPr/>
            <p:nvPr/>
          </p:nvSpPr>
          <p:spPr>
            <a:xfrm rot="21540000">
              <a:off x="7975800" y="60350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9"/>
            <p:cNvSpPr/>
            <p:nvPr/>
          </p:nvSpPr>
          <p:spPr>
            <a:xfrm rot="21540000">
              <a:off x="8182080" y="6033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0"/>
            <p:cNvSpPr/>
            <p:nvPr/>
          </p:nvSpPr>
          <p:spPr>
            <a:xfrm rot="21540000">
              <a:off x="8386920" y="60303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1"/>
            <p:cNvSpPr/>
            <p:nvPr/>
          </p:nvSpPr>
          <p:spPr>
            <a:xfrm rot="21540000">
              <a:off x="8593200" y="6023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59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98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101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09" name="Rectangle 20" hidden="1"/>
            <p:cNvSpPr/>
            <p:nvPr/>
          </p:nvSpPr>
          <p:spPr>
            <a:xfrm rot="21540000">
              <a:off x="379800" y="6098400"/>
              <a:ext cx="8305560" cy="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540000">
              <a:off x="379800" y="61696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 rot="21540000">
              <a:off x="584640" y="61635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 rot="21540000">
              <a:off x="790920" y="6160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 rot="21540000">
              <a:off x="995760" y="61585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 rot="21540000">
              <a:off x="1202040" y="6155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540000">
              <a:off x="1406520" y="61495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540000">
              <a:off x="1611360" y="61462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 rot="21540000">
              <a:off x="1817640" y="6144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 rot="21540000">
              <a:off x="2022480" y="61416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 rot="21540000">
              <a:off x="2229120" y="61351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 rot="21540000">
              <a:off x="2433960" y="6131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 rot="21540000">
              <a:off x="2638440" y="6130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 rot="21540000">
              <a:off x="2845080" y="6127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 rot="21540000">
              <a:off x="3049920" y="61207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 rot="21540000">
              <a:off x="3254760" y="6117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 rot="21540000">
              <a:off x="3461040" y="6116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 rot="21540000">
              <a:off x="3665880" y="611280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 rot="21540000">
              <a:off x="3871800" y="6106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 rot="21540000">
              <a:off x="4076640" y="6103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 rot="21540000">
              <a:off x="4281480" y="6101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1"/>
            <p:cNvSpPr/>
            <p:nvPr/>
          </p:nvSpPr>
          <p:spPr>
            <a:xfrm rot="21540000">
              <a:off x="4487760" y="6098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 rot="21540000">
              <a:off x="4689720" y="60919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 rot="21540000">
              <a:off x="4896000" y="6090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 rot="21540000">
              <a:off x="5100840" y="6087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 rot="21540000">
              <a:off x="5305680" y="6081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 rot="21540000">
              <a:off x="5511960" y="6078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7"/>
            <p:cNvSpPr/>
            <p:nvPr/>
          </p:nvSpPr>
          <p:spPr>
            <a:xfrm rot="21540000">
              <a:off x="5716800" y="6076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8"/>
            <p:cNvSpPr/>
            <p:nvPr/>
          </p:nvSpPr>
          <p:spPr>
            <a:xfrm rot="21540000">
              <a:off x="5923080" y="6073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9"/>
            <p:cNvSpPr/>
            <p:nvPr/>
          </p:nvSpPr>
          <p:spPr>
            <a:xfrm rot="21540000">
              <a:off x="6127560" y="60670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 rot="21540000">
              <a:off x="6332400" y="60638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1"/>
            <p:cNvSpPr/>
            <p:nvPr/>
          </p:nvSpPr>
          <p:spPr>
            <a:xfrm rot="21540000">
              <a:off x="6539040" y="6062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2"/>
            <p:cNvSpPr/>
            <p:nvPr/>
          </p:nvSpPr>
          <p:spPr>
            <a:xfrm rot="21540000">
              <a:off x="6743520" y="60588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3"/>
            <p:cNvSpPr/>
            <p:nvPr/>
          </p:nvSpPr>
          <p:spPr>
            <a:xfrm rot="21540000">
              <a:off x="6948720" y="60526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4"/>
            <p:cNvSpPr/>
            <p:nvPr/>
          </p:nvSpPr>
          <p:spPr>
            <a:xfrm rot="21540000">
              <a:off x="7155000" y="6049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5"/>
            <p:cNvSpPr/>
            <p:nvPr/>
          </p:nvSpPr>
          <p:spPr>
            <a:xfrm rot="21540000">
              <a:off x="7359840" y="6047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6"/>
            <p:cNvSpPr/>
            <p:nvPr/>
          </p:nvSpPr>
          <p:spPr>
            <a:xfrm rot="21540000">
              <a:off x="7566120" y="6044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7"/>
            <p:cNvSpPr/>
            <p:nvPr/>
          </p:nvSpPr>
          <p:spPr>
            <a:xfrm rot="21540000">
              <a:off x="7770960" y="6038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8"/>
            <p:cNvSpPr/>
            <p:nvPr/>
          </p:nvSpPr>
          <p:spPr>
            <a:xfrm rot="21540000">
              <a:off x="7975800" y="60350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9"/>
            <p:cNvSpPr/>
            <p:nvPr/>
          </p:nvSpPr>
          <p:spPr>
            <a:xfrm rot="21540000">
              <a:off x="8182080" y="6033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0"/>
            <p:cNvSpPr/>
            <p:nvPr/>
          </p:nvSpPr>
          <p:spPr>
            <a:xfrm rot="21540000">
              <a:off x="8386920" y="60303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1"/>
            <p:cNvSpPr/>
            <p:nvPr/>
          </p:nvSpPr>
          <p:spPr>
            <a:xfrm rot="21540000">
              <a:off x="8593200" y="6023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153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B640B04-1771-43CC-AACE-C1A4CA171A4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973E9A71-EE92-40BA-BA91-293675ED8F3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The Language of the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Market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03" name="Picture 4" descr="BS00558_[1]"/>
          <p:cNvPicPr/>
          <p:nvPr/>
        </p:nvPicPr>
        <p:blipFill>
          <a:blip r:embed="rId1"/>
          <a:stretch/>
        </p:blipFill>
        <p:spPr>
          <a:xfrm>
            <a:off x="7491240" y="2514600"/>
            <a:ext cx="1652760" cy="1463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A17DBC8-E784-48A1-B289-26E9F0EA263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Growth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Growth stocks are from companies who have a consistent record of relatively rapid growth and earnings in all economic condi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ew companies expanding product lin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Usually does not pay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5 or higher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Coca-Cola and Wal-Ma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A4E7FF7-A33F-4E79-BEEF-AD60E0037E7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Incom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Income stocks pay higher than average dividend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y only retains small portion of profi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ith a steady stream of income such as utility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less than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6563F7D-E8BD-4B39-8287-615D4C76FB0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al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alue stocks are from companies which have a low market price considering historical earning records and value of asset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iewed as investment bargain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evious examples are Time Warner and IBM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9DA097C-0458-449C-A512-360FDC57E64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yclical stocks are influenced by changes in the economic business cyc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hich operate in major consumer dependent industries 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utomobiles, housing, airlin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generally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98FADC5-70B1-4A14-81A1-8B39345FDB3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unter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ountercyclical stocks are companies which give consistent returns even when the economy is suffering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s are always in deman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ood for investors who want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utility companies and grocery stor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0 or below, even negativ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E086AA3-A310-4C55-99CC-CC940D49EF7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peculativ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peculative stocks are companies with potential for substantial earning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ery high risk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internet and video game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2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7BFB975-5339-4C51-8B84-9549687E23F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lue-chip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lue-chip stocks are from nationally recognized companies with long records of profit, dividend payments, and a good reputation for managemen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 at a consistent rat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McDonalds, Wal-Mart and General Electric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CFAAB93-6161-411D-A8EB-50345AE4B17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Researching A Stock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53" name="Picture 8" descr="j0234354"/>
          <p:cNvPicPr/>
          <p:nvPr/>
        </p:nvPicPr>
        <p:blipFill>
          <a:blip r:embed="rId1"/>
          <a:stretch/>
        </p:blipFill>
        <p:spPr>
          <a:xfrm>
            <a:off x="3352680" y="3657600"/>
            <a:ext cx="24386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632E699-F0AA-4648-A1B0-54958E4F84C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ook Valu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ook value is the net worth of a compan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ssets-Liabilities = Book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formation can be found in the company’s annual repo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dicates what would happen if a company’s assets were sold, debts paid, and proceeds distributed to stockholder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8447F73-7506-4384-80C0-DCFDA484C5D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Earning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How much income a company has available to pay in dividends and reinvest as retained earnings on a per share basi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After tax annual earnings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= Earnings per share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Total number of shares of common stock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the business section of many newspap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dicates how well a company is doing (the quality of products, customer service, and operations management)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76212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2FC35CF-FDA8-46C8-BBCF-794A31EE9E3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Learn About Stock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market is the core of America’s economic system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is a share of ownership in the assets and earnings of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ond is a type of debt that a company issues to investors for a specified amount of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market is a general term used to describe all transactions involving the buying and selling of stocks and bonds issued by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2DBACF6-DF56-44FC-A50D-FAEB0E10BA3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relationship between the price of one share of stock and the annual earnings of the company (P/E ratio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ice per sha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= 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arnings per share of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a newspaper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widely used critical measure of a stock’s pric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Represents how much an investor is willing to pay for each dollar of a company’s earning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04512F2-C57D-4B9E-99E4-1032B66F59A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/E Ratio Continue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st companies have between a 5-25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7-10 P/E ratios are financially successful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15-25 P/E ratios are rapidly growing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40-50 P/E ratios are speculative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wer P/E  stocks pay higher dividends and have less risk, lower prices, and slow growth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igh P/E ratios indicate the firm is expected to have a lot of growth in the futu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5710F2C-B462-47BC-A916-A6A8843F473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eta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eta measures a stocks volatility compared to overall changes in the stock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f a stock has a beta of +1.5 and the market went up 10%, the value of the stock is expected to rise 15%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verage beta is between +0.5 - +2.0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by doing an internet search for “Stock ticker symbol + beta”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higher beta indicates more risk because the stock price change will be more drastic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24F17EA-AF09-4D7E-BC7E-51BE2F49A39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Reading Stock Quote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73" name="Picture 6" descr="j0237169"/>
          <p:cNvPicPr/>
          <p:nvPr/>
        </p:nvPicPr>
        <p:blipFill>
          <a:blip r:embed="rId1"/>
          <a:stretch/>
        </p:blipFill>
        <p:spPr>
          <a:xfrm>
            <a:off x="3048120" y="350532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1FA1BE4-D152-4F22-AACD-8D58C1AAC592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Year to Date Percen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2192400"/>
          <a:ext cx="8534160" cy="100800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  <a:gridCol w="685800"/>
                <a:gridCol w="762120"/>
                <a:gridCol w="609480"/>
                <a:gridCol w="685800"/>
                <a:gridCol w="685800"/>
                <a:gridCol w="762120"/>
                <a:gridCol w="685800"/>
                <a:gridCol w="609480"/>
                <a:gridCol w="762120"/>
                <a:gridCol w="76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241"/>
          <p:cNvSpPr/>
          <p:nvPr/>
        </p:nvSpPr>
        <p:spPr>
          <a:xfrm>
            <a:off x="457200" y="32004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Year to date percent change is the stock price percent change from January 1</a:t>
            </a:r>
            <a:r>
              <a:rPr b="1" lang="en-US" sz="3200" spc="-1" strike="noStrike" baseline="30000">
                <a:solidFill>
                  <a:srgbClr val="009999"/>
                </a:solidFill>
                <a:latin typeface="Centaur"/>
              </a:rPr>
              <a:t>st </a:t>
            </a: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of the curren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stock was $43.00 on January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and $36.00 on July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th,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, the percentage change would be -16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C93E5B6-9EAC-43A1-8C8B-6E86DA2E590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52-Week High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874880"/>
          <a:ext cx="8534160" cy="1325520"/>
        </p:xfrm>
        <a:graphic>
          <a:graphicData uri="http://schemas.openxmlformats.org/drawingml/2006/table">
            <a:tbl>
              <a:tblPr/>
              <a:tblGrid>
                <a:gridCol w="807840"/>
                <a:gridCol w="662040"/>
                <a:gridCol w="739800"/>
                <a:gridCol w="762120"/>
                <a:gridCol w="609480"/>
                <a:gridCol w="685800"/>
                <a:gridCol w="609480"/>
                <a:gridCol w="762120"/>
                <a:gridCol w="685800"/>
                <a:gridCol w="685800"/>
                <a:gridCol w="762120"/>
                <a:gridCol w="761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66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52-Week High &amp; Low shows the highest and lowest prices the stock was sold per share during the last 5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BE7E5BA-F976-4729-A111-A5321E5BA85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Na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74880"/>
          <a:ext cx="8381880" cy="1249200"/>
        </p:xfrm>
        <a:graphic>
          <a:graphicData uri="http://schemas.openxmlformats.org/drawingml/2006/table">
            <a:tbl>
              <a:tblPr/>
              <a:tblGrid>
                <a:gridCol w="779400"/>
                <a:gridCol w="638280"/>
                <a:gridCol w="712800"/>
                <a:gridCol w="735120"/>
                <a:gridCol w="587160"/>
                <a:gridCol w="738360"/>
                <a:gridCol w="609480"/>
                <a:gridCol w="762120"/>
                <a:gridCol w="685800"/>
                <a:gridCol w="609480"/>
                <a:gridCol w="838080"/>
                <a:gridCol w="685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7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tock – Each company’s stock is provided with an abbreviated trading symb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91A6F166-9EB5-499F-94C2-68EA414F45C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874880"/>
          <a:ext cx="8763120" cy="1173240"/>
        </p:xfrm>
        <a:graphic>
          <a:graphicData uri="http://schemas.openxmlformats.org/drawingml/2006/table">
            <a:tbl>
              <a:tblPr/>
              <a:tblGrid>
                <a:gridCol w="868320"/>
                <a:gridCol w="731880"/>
                <a:gridCol w="725400"/>
                <a:gridCol w="746280"/>
                <a:gridCol w="596880"/>
                <a:gridCol w="752400"/>
                <a:gridCol w="552600"/>
                <a:gridCol w="947520"/>
                <a:gridCol w="709560"/>
                <a:gridCol w="631800"/>
                <a:gridCol w="789120"/>
                <a:gridCol w="711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56"/>
          <p:cNvSpPr/>
          <p:nvPr/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Dividends per share is the total cash paid to common stockholders per share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elpful when determining the type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company paid $10,000 in dividends for 30,000 shares, the dividends per share would be $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8C1867C-5881-4A04-9AA3-9B5378C3E79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 Yield Percenta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1874880"/>
          <a:ext cx="861048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685800"/>
                <a:gridCol w="882360"/>
                <a:gridCol w="570240"/>
                <a:gridCol w="718920"/>
                <a:gridCol w="593640"/>
                <a:gridCol w="841680"/>
                <a:gridCol w="812520"/>
                <a:gridCol w="609840"/>
                <a:gridCol w="761760"/>
                <a:gridCol w="685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59"/>
          <p:cNvSpPr/>
          <p:nvPr/>
        </p:nvSpPr>
        <p:spPr>
          <a:xfrm>
            <a:off x="457200" y="33526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ividend yield percentage is the dividend expressed as a percentage of the price of th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a company paid $1.25 in dividends for a stock with a market price of $50.00, the dividend yield percentage would be 2.5% (1.25/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Helpful to know how much income to expect.  A company paying high dividends is not reinvesting money to g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4F42F58-9893-4F2B-BE12-E92ACA52548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752480"/>
          <a:ext cx="8839440" cy="1371600"/>
        </p:xfrm>
        <a:graphic>
          <a:graphicData uri="http://schemas.openxmlformats.org/drawingml/2006/table">
            <a:tbl>
              <a:tblPr/>
              <a:tblGrid>
                <a:gridCol w="762120"/>
                <a:gridCol w="781200"/>
                <a:gridCol w="823680"/>
                <a:gridCol w="757440"/>
                <a:gridCol w="573120"/>
                <a:gridCol w="723600"/>
                <a:gridCol w="598680"/>
                <a:gridCol w="847800"/>
                <a:gridCol w="685800"/>
                <a:gridCol w="749160"/>
                <a:gridCol w="766800"/>
                <a:gridCol w="77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54"/>
          <p:cNvSpPr/>
          <p:nvPr/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closing price of the share compared to the annual earnings pe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the stock’s market price is $50.00 and the earnings per share is $2.25, the P/E ratio is 22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For every dollar the company earns, the stock’s market price is worth $22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A high number indicates people are optimistic about the company and health of the mar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4D43610-A4EB-4015-B17D-EC20E8DCF5D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Companies Iss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When a company would like to grow, it issues stocks to raise funds and pay for ongoing business activiti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It is popular because: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The company does not have to repay the mone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ying dividends is optional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Dividends are distributions of earnings paid to stockhold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F7684A0-1EC0-47BB-AC3F-B88688A5D1C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olu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874880"/>
          <a:ext cx="883944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838440"/>
                <a:gridCol w="685800"/>
                <a:gridCol w="687240"/>
                <a:gridCol w="557280"/>
                <a:gridCol w="790560"/>
                <a:gridCol w="762120"/>
                <a:gridCol w="707760"/>
                <a:gridCol w="838440"/>
                <a:gridCol w="685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68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ol 100’s is the number of transactions to the share on the reporte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aur"/>
              </a:rPr>
              <a:t>Represented in hundreds (take the number and add two ze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5272B1E-812C-4C3F-8575-E1E7C763715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High and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1874880"/>
          <a:ext cx="8610480" cy="1447920"/>
        </p:xfrm>
        <a:graphic>
          <a:graphicData uri="http://schemas.openxmlformats.org/drawingml/2006/table">
            <a:tbl>
              <a:tblPr/>
              <a:tblGrid>
                <a:gridCol w="861840"/>
                <a:gridCol w="638280"/>
                <a:gridCol w="780840"/>
                <a:gridCol w="779760"/>
                <a:gridCol w="637920"/>
                <a:gridCol w="641520"/>
                <a:gridCol w="612720"/>
                <a:gridCol w="762120"/>
                <a:gridCol w="761760"/>
                <a:gridCol w="609840"/>
                <a:gridCol w="761760"/>
                <a:gridCol w="762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55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High and low entries represent the high and low selling price of one share for the prev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9DD19E4-8724-4FE8-8069-FB194426E53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os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74880"/>
          <a:ext cx="8458200" cy="1554120"/>
        </p:xfrm>
        <a:graphic>
          <a:graphicData uri="http://schemas.openxmlformats.org/drawingml/2006/table">
            <a:tbl>
              <a:tblPr/>
              <a:tblGrid>
                <a:gridCol w="824040"/>
                <a:gridCol w="609480"/>
                <a:gridCol w="746280"/>
                <a:gridCol w="745920"/>
                <a:gridCol w="609840"/>
                <a:gridCol w="731880"/>
                <a:gridCol w="609480"/>
                <a:gridCol w="762120"/>
                <a:gridCol w="685800"/>
                <a:gridCol w="68580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59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lose is the price of the last share sold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D6010BB-9A39-484B-83EA-590BFE82E41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74880"/>
          <a:ext cx="8381880" cy="1630440"/>
        </p:xfrm>
        <a:graphic>
          <a:graphicData uri="http://schemas.openxmlformats.org/drawingml/2006/table">
            <a:tbl>
              <a:tblPr/>
              <a:tblGrid>
                <a:gridCol w="801720"/>
                <a:gridCol w="593640"/>
                <a:gridCol w="725400"/>
                <a:gridCol w="725760"/>
                <a:gridCol w="593640"/>
                <a:gridCol w="711000"/>
                <a:gridCol w="594000"/>
                <a:gridCol w="893520"/>
                <a:gridCol w="685800"/>
                <a:gridCol w="60984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55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t change is the difference between the closing price of the share from the prior day and the curr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37F95D0-F986-4D66-A461-F283B1BDA4A2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How Well the Stock Market is Doing Overall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16" name="Picture 6" descr="j0237770"/>
          <p:cNvPicPr/>
          <p:nvPr/>
        </p:nvPicPr>
        <p:blipFill>
          <a:blip r:embed="rId1"/>
          <a:stretch/>
        </p:blipFill>
        <p:spPr>
          <a:xfrm>
            <a:off x="3657600" y="4114800"/>
            <a:ext cx="19461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CAFA671-82E2-4B3C-B7DF-8A7346CF3AD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3 Basic Indicato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ow Jones Industrial Average (“DOW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Lists the 30 leading industrial blue chip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andard and Poor’s 500 Composite Index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vers market activity for 500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re accurate than DOW because it evaluates a greater variety of stock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National Association of Security Dealers Automated Quotations (“NASDAQ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nitors fast moving technology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Speculative stocks, show dramatic ups and down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53B9B14-6A7A-437A-86CD-9DC5346F7E72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Ups and Dow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ull market means the market is doing well because investors are optimistic about the economy and are purchasing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ear market means the market is doing poorly and investors are not purchasing stocks or selling stocks already owne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B70B49E-A515-449C-B0CB-C3136BD1371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Purchasing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25" name="Picture 7" descr="j0250522"/>
          <p:cNvPicPr/>
          <p:nvPr/>
        </p:nvPicPr>
        <p:blipFill>
          <a:blip r:embed="rId1"/>
          <a:stretch/>
        </p:blipFill>
        <p:spPr>
          <a:xfrm>
            <a:off x="3657600" y="3505320"/>
            <a:ext cx="173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57A3DA0-99C3-4CE0-A947-AA0DEE6A768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roke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 Broker is a person who is licensed to buy and sell stocks, provide investment advice, and collect a commission on each purchase or sa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urchases stocks on an organized exchange (stock market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ver ¾ of all stocks are bought and sold on an organized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83B32A3-6304-4B29-9462-A6CFE3A95AD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Organized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Minimum requirements for a stock to ensure only reputable companies are use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ach exchange has a limited number of seats available which brokerage firms  purchase to give them the legal right to buy and sell stocks on the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A5EF6DA-283D-4DBC-B1FF-B62DD2A00B0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isk vs. Return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On average, stocks have a high rate of retur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increase or decrease in the original purchase pric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Higher rate of return = greater ris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Uncertainty about the outcom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tocks provide portfolio diversifi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Money invested in a variety of investment tool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CA20EFF-BF1F-40EC-90FC-001BA5E4E5D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w York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w York Stock Exchange (NYSE)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ldest and largest, began in 1792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1,366 seats availabl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,800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33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rict requiremen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9053201-E2C8-4D2C-9467-4CA643C516B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American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merican Stock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gan in 1849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largest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t’s requirements are not as strict as NYSE allowing younger, smaller companies to lis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24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357E015-35CE-4100-AAFF-46ED4C23287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egional Stock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Regional Stock Exchang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to investors living in a specific geographical area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cluding Boston, Cincinnati, Philadelphia, Spokan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057C402-BE0D-4D14-8C7E-CB2BF7FC0E7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ASDAQ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ational Association of Securities Dealers Automated Quot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in an over the counter electronic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4,000 small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mpany requirements are not as strict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re volatile because companies are young and new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11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D206569-42AE-4760-A503-2037336FF93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upply vs. Deman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exchange is organized based upon the laws of supply and deman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upply is the relationship of prices to the quantities of a good or service sellers are willing to offer for sale at any given point in tim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emand is the relationship of prices to the quantities and the corresponding quantities of a good or service buyers are willing to purchase at any given point in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95B283B-276D-46BC-8708-0B2E331CD2F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2 Basic Types of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Vs. 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Preferred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910B9F0-F29D-4210-96C7-2C94DFC8DF2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mmon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Common stock – shares or units of ownership in a public corporation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basic form of ownership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One vote per share owned to determine company’s board of directo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Ways the stock value can 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The dollar value increases or decreas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Stock split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 occurs – shares owned by existing stockholders are divided into a larger number of shar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merger of two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ividends are paid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410DA30-8C75-4805-B91E-BFE035C877E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eferred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Preferred stock – shares which pay fixed dividends and have priority over 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 than common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o voting righ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ividends are stated as a percentage known as the </a:t>
            </a: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ar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Fixed value stated on the stock certificat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392B8CA-35BD-40B1-B158-2DF9C40BEAB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226" name="Picture 7" descr="BS00512_[1]"/>
          <p:cNvPicPr/>
          <p:nvPr/>
        </p:nvPicPr>
        <p:blipFill>
          <a:blip r:embed="rId1"/>
          <a:stretch/>
        </p:blipFill>
        <p:spPr>
          <a:xfrm>
            <a:off x="2666880" y="3886200"/>
            <a:ext cx="38102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5A21252-EDB3-4649-8BAF-E25A6ED28A7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 variety of type of stocks are necessary for a diversified portfolio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 basic classific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th, Income, Value, Cyclical, Countercyclical, Speculative, Blue Chip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me stocks can be classified into more than one categor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7:33:39Z</dcterms:created>
  <dc:creator>nchinadle</dc:creator>
  <dc:description/>
  <dc:language>en-US</dc:language>
  <cp:lastModifiedBy>Phil Schneider</cp:lastModifiedBy>
  <dcterms:modified xsi:type="dcterms:W3CDTF">2011-12-07T10:50:17Z</dcterms:modified>
  <cp:revision>35</cp:revision>
  <dc:subject/>
  <dc:title>Slide 1</dc:title>
</cp:coreProperties>
</file>